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2825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40840" y="9131400"/>
            <a:ext cx="1422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alliard"/>
              </a:rPr>
              <a:t>Page </a:t>
            </a:r>
            <a:fld id="{DB7A4E86-4DFF-4578-B860-DD2F52915601}" type="slidenum">
              <a:rPr b="0" lang="en-US" sz="1300" spc="-1" strike="noStrike">
                <a:solidFill>
                  <a:srgbClr val="000000"/>
                </a:solidFill>
                <a:latin typeface="Galliar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rpad:according to dr. Bob: attach.1 = from TADU8:  Wa = single-dish Wb (5A) Wb = tied-array through TADUmax (5B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uto-correlations (better band-pass shapes TADUmax) no fringes -- bit-ordering problem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More about evlbi with A+ and B in a later sheet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1200" cy="3595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Note een lichtpad naar shanghai via HongKong maar ook verbinding via ORIENT, alle europese telescopen op lichtpad behalve On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rpad: plaatje van space-craft tracking mode moet nog komen (eBob heeft vrij...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rpad: plaatje van space-craft tracking mode moet nog komen (eBob heeft vrij...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3240" y="44262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800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58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84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32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58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84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9360" y="-360"/>
            <a:ext cx="7440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7800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03240" y="44262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7800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58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84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032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258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84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9360" y="-360"/>
            <a:ext cx="7440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800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40" y="509760"/>
            <a:ext cx="9464760" cy="6108480"/>
          </a:xfrm>
          <a:prstGeom prst="rect">
            <a:avLst/>
          </a:prstGeom>
          <a:noFill/>
          <a:ln w="1260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32640"/>
            <a:ext cx="17431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4080"/>
                </a:solidFill>
                <a:latin typeface="Times New Roman"/>
                <a:ea typeface="Times New Roman"/>
              </a:rPr>
              <a:t>TOG, Torun, April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346960" y="0"/>
            <a:ext cx="1555920" cy="49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880"/>
            <a:ext cx="9063000" cy="60912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4800" y="6362640"/>
            <a:ext cx="28828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Microsoft Sans Serif"/>
                <a:ea typeface="Times New Roman"/>
              </a:rPr>
              <a:t>EVN Symposium 2004, A. Szomoru, J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128080" y="314280"/>
            <a:ext cx="1368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43120" y="5218200"/>
            <a:ext cx="77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ad Szomoru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1840" y="270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12960" y="1577880"/>
            <a:ext cx="611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EVN/JIVE Technical develop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63680" y="4284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Please use our wonderful tools...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3240" y="874440"/>
            <a:ext cx="5981760" cy="569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8560" y="1187280"/>
            <a:ext cx="8651880" cy="527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02120" y="1843200"/>
            <a:ext cx="4506840" cy="447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The International Year of Astronomy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0640" y="765000"/>
            <a:ext cx="9551880" cy="15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lvl="1" marL="68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53440" y="313056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693720"/>
            <a:ext cx="495144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ther of all demos (MOAD) during opening ceremony of IYA, 15-16 January 2009 in Pa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8-hour runs during 100 hours of astronomy in Apr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692680" y="712800"/>
            <a:ext cx="3002040" cy="5675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1360" y="2684520"/>
            <a:ext cx="535320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1480" y="3711600"/>
            <a:ext cx="53528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591000" y="4317840"/>
            <a:ext cx="53528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Mark5 status at JIV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0520" y="917640"/>
            <a:ext cx="775656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k5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Upgrade of hardware (motherboards, memory, power supplies) completed, some 10 G card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Debian Etch on most unit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k5A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Upgrade of Mark5A, enables play-back of Mark5B data on Mark5A unit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Used at JIVE with Yebes, Effelsberg and Westerbork TADUmax data, occasionally QUASAR, Ventspill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And on converted Australian LBADR data 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k5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On and off several units converted from A to B at JIVE (depending on production correlation needs)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Function well, but very little actual data to play back...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ark5B (e-)issue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3240" y="874800"/>
            <a:ext cx="85327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ark5A+: works fine with MarkB e- and non-e-VLBI d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4080"/>
                </a:solidFill>
                <a:latin typeface="Times New Roman"/>
              </a:rPr>
              <a:t>Demonstrated in several demos</a:t>
            </a: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4080"/>
                </a:solidFill>
                <a:latin typeface="Times New Roman"/>
              </a:rPr>
              <a:t>Wb now only uses Mark5B for e-VLBI, Ef currently not</a:t>
            </a: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4080"/>
                </a:solidFill>
                <a:latin typeface="Times New Roman"/>
              </a:rPr>
              <a:t>First e-fringes with Ys (on B) recently</a:t>
            </a: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ark5B, disk-base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4080"/>
                </a:solidFill>
                <a:latin typeface="Times New Roman"/>
              </a:rPr>
              <a:t>Software development done</a:t>
            </a: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4080"/>
                </a:solidFill>
                <a:latin typeface="Times New Roman"/>
              </a:rPr>
              <a:t>Playback is being verified now</a:t>
            </a: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ark5B, e-base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4080"/>
                </a:solidFill>
                <a:latin typeface="Times New Roman"/>
              </a:rPr>
              <a:t>Sending side: JIVE-developed code works fine</a:t>
            </a: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4080"/>
                </a:solidFill>
                <a:latin typeface="Times New Roman"/>
              </a:rPr>
              <a:t>Domino: e-VLBI enabled, no fringes yet, need test time/data, need buffer in A to check A-B fringes</a:t>
            </a: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61e35"/>
                </a:solidFill>
                <a:latin typeface="Times New Roman"/>
              </a:rPr>
              <a:t>Not a reason not to go ahead with upgrade to B...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Network statu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40520" y="501336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1800" y="800280"/>
            <a:ext cx="5451480" cy="51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n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upgrade to 10 G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ll 1024 Mbps been used operational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Wb: two lightpaths, channel bo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Ef and On: 10 and 4 Gbps connections for e-LO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Jb: 2 lightpaths alread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Tr: 10-G to Poznan,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rlincast regularly used in science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sterdam via regular switched GEAN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nd beyond Europ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40520" y="501336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8120" y="541440"/>
            <a:ext cx="773892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ng distanc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Ar, Sh regularly at 512 Mb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But time restrictions for high bandwidth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Hh: repairs/replace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Tc: fringes as well, but limitation of S-American network not likely to improve s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Oz: still one lightpath in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Kashima, Urumqi in IYA demo, VERA and KASI nex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ToO requesting ultra-long baseline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9720" y="-360"/>
            <a:ext cx="748512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New modes, feedback and streamlining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1960" y="823680"/>
            <a:ext cx="880416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1778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urrently under developm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ast/adaptive (re-)schedu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4080"/>
                </a:solidFill>
                <a:latin typeface="Times New Roman"/>
              </a:rPr>
              <a:t>Tested with Tr, Wb and Jb</a:t>
            </a: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080"/>
                </a:solidFill>
                <a:latin typeface="Times New Roman"/>
              </a:rPr>
              <a:t>No further development?</a:t>
            </a: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-the-fly fringe fitting: op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l-time station-log processing, display of Tsys, status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080"/>
                </a:solidFill>
                <a:latin typeface="Times New Roman"/>
              </a:rPr>
              <a:t>Need installation of simple script at stations</a:t>
            </a: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080"/>
                </a:solidFill>
                <a:latin typeface="Times New Roman"/>
              </a:rPr>
              <a:t>Uses copy of log file on local Mark5</a:t>
            </a: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2600" y="1547640"/>
            <a:ext cx="9272520" cy="430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9720" y="-360"/>
            <a:ext cx="748512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New modes, feedback and streamlining (2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1960" y="823680"/>
            <a:ext cx="880416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177840" indent="-177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tom/RSS schedul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Incoming and outgoing schedules hosted on vlbeer, filed by year and month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Schedules approved and moved to .latest subdirectory 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Atom (RSS) publishing protocol used to publish notification of new schedules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Stations and other interested parties alerted via RSS subscriptions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Atom publishing protocol allows for modification of documents, and notification 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of this 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at would stay  the s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Schedules should still be hosted on vlbeer 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Full schedules must still be fetched from vlbeer (Atom documents to include only summary  and link to vlbeer) 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Authorisation of schedules still performed by EVN 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Email notification could still be sent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Stations could </a:t>
            </a: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t their own convenience </a:t>
            </a: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ntegrate RSS readers into their schedule  maintenance strategy 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Times New Roman"/>
              </a:rPr>
              <a:t>SCARIe / FABRIC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6760" y="633240"/>
            <a:ext cx="5977080" cy="553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ftware correlator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Excellent agreement with hardware correlator result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Possibility to create FITS file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Optimization efforts continue: performance now comparable to DIFX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Data directly from Mark5 disk packs (through FUSE)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Collaboration with AUTOBahn project (bandwidth-on-demand) led to several successful demos (GLIF08, SC08)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Grid-based correlation to be tested in next month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Will serve as platform for 4 Gbps correlation at JIVE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First image...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08880" y="563400"/>
            <a:ext cx="2869920" cy="2927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600960" y="3559320"/>
            <a:ext cx="2881080" cy="2939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476360" y="711360"/>
            <a:ext cx="8037360" cy="56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Times New Roman"/>
              </a:rPr>
              <a:t>The UniBoard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9000" y="723600"/>
            <a:ext cx="751356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RA in RadioNet FP7, started Jan 2009, first prototype end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nded by EC to ~800k€, comparabl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llaboration of 7 international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PGA-based computing platform, different applic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Next generation EVN correlato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APERTIF beamforme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APERTIF correlato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Digital receive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Pulsar binning machine (EPTA)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Validation platform broadband digitization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Low frequency resolution correlato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Next gen. IRAM demonstrator correlato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Solar interferomete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Next gen. Korean e-VLBI correlato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Next gen. Chinese e-VLBI correlato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prepSKA correlator effort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54440" y="2211480"/>
            <a:ext cx="5024520" cy="425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21:29:44Z</dcterms:created>
  <dc:creator>Arpad Szomoru</dc:creator>
  <dc:description/>
  <dc:language>en-US</dc:language>
  <cp:lastModifiedBy>Arpad Szomoru</cp:lastModifiedBy>
  <cp:lastPrinted>2001-03-09T11:05:18Z</cp:lastPrinted>
  <dcterms:modified xsi:type="dcterms:W3CDTF">2009-04-17T13:28:27Z</dcterms:modified>
  <cp:revision>25</cp:revision>
  <dc:subject/>
  <dc:title>PowerPoint Presentation</dc:title>
</cp:coreProperties>
</file>